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6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1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577A-8441-48D9-8990-B65E161D3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-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.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-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eral Identifi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g.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is the way that mineral brea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is the way that mineral brea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racture!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racture!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minerals below for 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minerals below for 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op mov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and Mob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op mov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and Mob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:luster,color and 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:luster,color and 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 and process gol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 and process gol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’ll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hysical properties used to identify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minerals using physical properties such as hardness and str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’ll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hysical properties used to identify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minerals using physical properties such as hardness and str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s Hardness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 easily scratc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s Hardness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 easily scratc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metallic or nonmetal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metallic or nonmetal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compared with the weight of an equal volum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has specific gravity of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gold is 19 times heavier tha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compared with the weight of an equal volum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has specific gravity of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gold is 19 times heavier tha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4E50-DED4-4533-B3F3-F2A4AC76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215A-3AE4-4DC3-BD8D-70E80E3F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0C5D-7329-49CC-88A9-ADE5F434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4CE4-8EC9-4F1F-BC84-3D0F99ED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567-E94D-4B0C-8DE1-D7E4D449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A25F-7680-4079-B519-A625E168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908-A284-4A67-ADE2-576FB19B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FD3E-BB7E-4E91-83B4-016E707D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032-EC19-4E6B-9F5B-E23191BE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FA34-3335-401B-B000-0A9437BF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971B-1CA6-48B9-A6F6-5724ABDE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4E48-AB33-495D-B93A-41BD811A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3853-7D8D-4EA3-8CC7-1E5E3EB11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ection-2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ineral Identification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g.6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Strea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6hematite-streak10"/>
          <p:cNvPicPr/>
          <p:nvPr/>
        </p:nvPicPr>
        <p:blipFill>
          <a:blip r:embed="rId1"/>
          <a:stretch/>
        </p:blipFill>
        <p:spPr>
          <a:xfrm>
            <a:off x="0" y="3487680"/>
            <a:ext cx="4114800" cy="3370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6limonite-streak10"/>
          <p:cNvPicPr/>
          <p:nvPr/>
        </p:nvPicPr>
        <p:blipFill>
          <a:blip r:embed="rId2"/>
          <a:stretch/>
        </p:blipFill>
        <p:spPr>
          <a:xfrm>
            <a:off x="4572000" y="3500280"/>
            <a:ext cx="4572000" cy="335772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2"/>
          <p:cNvGrpSpPr/>
          <p:nvPr/>
        </p:nvGrpSpPr>
        <p:grpSpPr>
          <a:xfrm>
            <a:off x="2286000" y="3663360"/>
            <a:ext cx="3303720" cy="2203920"/>
            <a:chOff x="2286000" y="3663360"/>
            <a:chExt cx="3303720" cy="2203920"/>
          </a:xfrm>
        </p:grpSpPr>
        <p:sp>
          <p:nvSpPr>
            <p:cNvPr id="107" name="AutoShape 10"/>
            <p:cNvSpPr/>
            <p:nvPr/>
          </p:nvSpPr>
          <p:spPr>
            <a:xfrm>
              <a:off x="2286000" y="5334120"/>
              <a:ext cx="1905120" cy="533160"/>
            </a:xfrm>
            <a:prstGeom prst="leftArrow">
              <a:avLst>
                <a:gd name="adj1" fmla="val 50000"/>
                <a:gd name="adj2" fmla="val 8933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1"/>
            <p:cNvSpPr/>
            <p:nvPr/>
          </p:nvSpPr>
          <p:spPr>
            <a:xfrm rot="12650400">
              <a:off x="3593880" y="4138200"/>
              <a:ext cx="2000160" cy="533520"/>
            </a:xfrm>
            <a:prstGeom prst="leftArrow">
              <a:avLst>
                <a:gd name="adj1" fmla="val 50000"/>
                <a:gd name="adj2" fmla="val 9372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13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9933ff"/>
                </a:solidFill>
                <a:uFillTx/>
                <a:latin typeface="Arial"/>
              </a:rPr>
              <a:t>Cleav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3399"/>
                </a:solidFill>
                <a:uFillTx/>
                <a:latin typeface="Alba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way that mineral brea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6calcite-cleavage2"/>
          <p:cNvPicPr/>
          <p:nvPr/>
        </p:nvPicPr>
        <p:blipFill>
          <a:blip r:embed="rId1"/>
          <a:stretch/>
        </p:blipFill>
        <p:spPr>
          <a:xfrm>
            <a:off x="4876920" y="3998880"/>
            <a:ext cx="4038480" cy="2859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001_cleavage_of_mica"/>
          <p:cNvPicPr/>
          <p:nvPr/>
        </p:nvPicPr>
        <p:blipFill>
          <a:blip r:embed="rId2"/>
          <a:stretch/>
        </p:blipFill>
        <p:spPr>
          <a:xfrm>
            <a:off x="152280" y="4017960"/>
            <a:ext cx="4114800" cy="28400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8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</a:rPr>
              <a:t>and </a:t>
            </a:r>
            <a:r>
              <a:rPr b="1" lang="en-US" sz="5400" spc="-1" strike="noStrike" u="sng">
                <a:solidFill>
                  <a:srgbClr val="ff3399"/>
                </a:solidFill>
                <a:uFillTx/>
                <a:latin typeface="Arial"/>
              </a:rPr>
              <a:t>Fracture!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"/>
          <p:cNvGrpSpPr/>
          <p:nvPr/>
        </p:nvGrpSpPr>
        <p:grpSpPr>
          <a:xfrm>
            <a:off x="2457360" y="3686040"/>
            <a:ext cx="4229280" cy="3171960"/>
            <a:chOff x="2457360" y="3686040"/>
            <a:chExt cx="4229280" cy="3171960"/>
          </a:xfrm>
        </p:grpSpPr>
        <p:pic>
          <p:nvPicPr>
            <p:cNvPr id="118" name="Picture 5" descr="Quartz_ConchoidalFracture"/>
            <p:cNvPicPr/>
            <p:nvPr/>
          </p:nvPicPr>
          <p:blipFill>
            <a:blip r:embed="rId1"/>
            <a:stretch/>
          </p:blipFill>
          <p:spPr>
            <a:xfrm>
              <a:off x="2457360" y="3686040"/>
              <a:ext cx="422928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6"/>
            <p:cNvSpPr/>
            <p:nvPr/>
          </p:nvSpPr>
          <p:spPr>
            <a:xfrm>
              <a:off x="5410080" y="3886200"/>
              <a:ext cx="121932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quart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Identify the minerals below for cleavage and fra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alite"/>
          <p:cNvPicPr/>
          <p:nvPr/>
        </p:nvPicPr>
        <p:blipFill>
          <a:blip r:embed="rId1"/>
          <a:stretch/>
        </p:blipFill>
        <p:spPr>
          <a:xfrm>
            <a:off x="3276720" y="137160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122" name="Line 6"/>
          <p:cNvSpPr/>
          <p:nvPr/>
        </p:nvSpPr>
        <p:spPr>
          <a:xfrm>
            <a:off x="4572000" y="1600200"/>
            <a:ext cx="0" cy="4876920"/>
          </a:xfrm>
          <a:prstGeom prst="line">
            <a:avLst/>
          </a:prstGeom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38080" y="160020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EA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6172200" y="167652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M22-Quartz-var-A"/>
          <p:cNvPicPr/>
          <p:nvPr/>
        </p:nvPicPr>
        <p:blipFill>
          <a:blip r:embed="rId2"/>
          <a:stretch/>
        </p:blipFill>
        <p:spPr>
          <a:xfrm>
            <a:off x="3319560" y="1652760"/>
            <a:ext cx="2381040" cy="1676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fracture-%255b%255d-garnet-(pyrope)-BADPHOTO"/>
          <p:cNvPicPr/>
          <p:nvPr/>
        </p:nvPicPr>
        <p:blipFill>
          <a:blip r:embed="rId3"/>
          <a:stretch/>
        </p:blipFill>
        <p:spPr>
          <a:xfrm>
            <a:off x="3352680" y="160020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3"/>
          <p:cNvSpPr/>
          <p:nvPr/>
        </p:nvSpPr>
        <p:spPr>
          <a:xfrm>
            <a:off x="4361040" y="32457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6" descr="Mineral Cleavage"/>
          <p:cNvPicPr/>
          <p:nvPr/>
        </p:nvPicPr>
        <p:blipFill>
          <a:blip r:embed="rId4"/>
          <a:stretch/>
        </p:blipFill>
        <p:spPr>
          <a:xfrm>
            <a:off x="3438360" y="1523880"/>
            <a:ext cx="2267280" cy="1687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Name This Mineral.....magnesium carbonate"/>
          <p:cNvPicPr/>
          <p:nvPr/>
        </p:nvPicPr>
        <p:blipFill>
          <a:blip r:embed="rId5"/>
          <a:stretch/>
        </p:blipFill>
        <p:spPr>
          <a:xfrm>
            <a:off x="3143160" y="1476360"/>
            <a:ext cx="2857680" cy="1952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Name This Mineral.....rhombohedral cleavage; hardness between 2.5 and 5.5; reacts to dilute HCl"/>
          <p:cNvPicPr/>
          <p:nvPr/>
        </p:nvPicPr>
        <p:blipFill>
          <a:blip r:embed="rId6"/>
          <a:stretch/>
        </p:blipFill>
        <p:spPr>
          <a:xfrm>
            <a:off x="3314880" y="1322280"/>
            <a:ext cx="26287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1092E-006 L -0.3125 0.06244 E">
                                      <p:cBhvr>
                                        <p:cTn id="38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53562E-006 L 0.30677 0.07007 E">
                                      <p:cBhvr>
                                        <p:cTn id="39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2544E-006 L 0.28333 0.31082 E">
                                      <p:cBhvr>
                                        <p:cTn id="40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88529E-007 L -0.30833 0.27683 E">
                                      <p:cBhvr>
                                        <p:cTn id="41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9519E-006 L 0.28333 0.55296 E">
                                      <p:cBhvr>
                                        <p:cTn id="41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518E-006 L -0.33125 0.51988 E">
                                      <p:cBhvr>
                                        <p:cTn id="42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Brain pop movie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im and M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ShockwaveFlash1"/>
          <p:cNvGraphicFramePr/>
          <p:nvPr/>
        </p:nvGraphicFramePr>
        <p:xfrm>
          <a:off x="0" y="838080"/>
          <a:ext cx="88390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839080" cy="5791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n illustration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earance:luster,color and st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ShockwaveFlash1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n illustration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eavage and fra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ShockwaveFlash1"/>
          <p:cNvGraphicFramePr/>
          <p:nvPr/>
        </p:nvGraphicFramePr>
        <p:xfrm>
          <a:off x="0" y="1523880"/>
          <a:ext cx="9144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533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ow to find and process gol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gold_bullion_coins"/>
          <p:cNvPicPr/>
          <p:nvPr/>
        </p:nvPicPr>
        <p:blipFill>
          <a:blip r:embed="rId1"/>
          <a:stretch/>
        </p:blipFill>
        <p:spPr>
          <a:xfrm>
            <a:off x="57240" y="2209680"/>
            <a:ext cx="799920" cy="1219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us gold coins"/>
          <p:cNvPicPr/>
          <p:nvPr/>
        </p:nvPicPr>
        <p:blipFill>
          <a:blip r:embed="rId2"/>
          <a:stretch/>
        </p:blipFill>
        <p:spPr>
          <a:xfrm>
            <a:off x="2090880" y="838080"/>
            <a:ext cx="2100240" cy="981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Gold%203"/>
          <p:cNvPicPr/>
          <p:nvPr/>
        </p:nvPicPr>
        <p:blipFill>
          <a:blip r:embed="rId3"/>
          <a:stretch/>
        </p:blipFill>
        <p:spPr>
          <a:xfrm>
            <a:off x="7620120" y="838080"/>
            <a:ext cx="1523880" cy="103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WindowsMediaPlayer1"/>
          <p:cNvGraphicFramePr/>
          <p:nvPr/>
        </p:nvGraphicFramePr>
        <p:xfrm>
          <a:off x="933480" y="1886040"/>
          <a:ext cx="7270560" cy="495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WindowsMediaPlayer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33480" y="1886040"/>
                    <a:ext cx="72705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ineral identification vid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Gemstones, Rajasthan Travel"/>
          <p:cNvPicPr/>
          <p:nvPr/>
        </p:nvPicPr>
        <p:blipFill>
          <a:blip r:embed="rId1"/>
          <a:stretch/>
        </p:blipFill>
        <p:spPr>
          <a:xfrm>
            <a:off x="0" y="5334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gemstones"/>
          <p:cNvPicPr/>
          <p:nvPr/>
        </p:nvPicPr>
        <p:blipFill>
          <a:blip r:embed="rId2"/>
          <a:stretch/>
        </p:blipFill>
        <p:spPr>
          <a:xfrm>
            <a:off x="0" y="3886200"/>
            <a:ext cx="1155600" cy="147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pic_loose_gemstones"/>
          <p:cNvPicPr/>
          <p:nvPr/>
        </p:nvPicPr>
        <p:blipFill>
          <a:blip r:embed="rId3"/>
          <a:stretch/>
        </p:blipFill>
        <p:spPr>
          <a:xfrm>
            <a:off x="0" y="2657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gemstones"/>
          <p:cNvPicPr/>
          <p:nvPr/>
        </p:nvPicPr>
        <p:blipFill>
          <a:blip r:embed="rId4"/>
          <a:stretch/>
        </p:blipFill>
        <p:spPr>
          <a:xfrm>
            <a:off x="0" y="144792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Gemstones, Rajasthan Travel"/>
          <p:cNvPicPr/>
          <p:nvPr/>
        </p:nvPicPr>
        <p:blipFill>
          <a:blip r:embed="rId5"/>
          <a:stretch/>
        </p:blipFill>
        <p:spPr>
          <a:xfrm>
            <a:off x="7988400" y="5334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gemstones"/>
          <p:cNvPicPr/>
          <p:nvPr/>
        </p:nvPicPr>
        <p:blipFill>
          <a:blip r:embed="rId6"/>
          <a:stretch/>
        </p:blipFill>
        <p:spPr>
          <a:xfrm>
            <a:off x="7988400" y="3886200"/>
            <a:ext cx="1155600" cy="1476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pic_loose_gemstones"/>
          <p:cNvPicPr/>
          <p:nvPr/>
        </p:nvPicPr>
        <p:blipFill>
          <a:blip r:embed="rId7"/>
          <a:stretch/>
        </p:blipFill>
        <p:spPr>
          <a:xfrm>
            <a:off x="7988400" y="2657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gemstones"/>
          <p:cNvPicPr/>
          <p:nvPr/>
        </p:nvPicPr>
        <p:blipFill>
          <a:blip r:embed="rId8"/>
          <a:stretch/>
        </p:blipFill>
        <p:spPr>
          <a:xfrm>
            <a:off x="7988400" y="1447920"/>
            <a:ext cx="114300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WindowsMediaPlayer1"/>
          <p:cNvGraphicFramePr/>
          <p:nvPr/>
        </p:nvGraphicFramePr>
        <p:xfrm>
          <a:off x="1157400" y="1828800"/>
          <a:ext cx="6932520" cy="502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WindowsMediaPlayer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57400" y="1828800"/>
                    <a:ext cx="693252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lba"/>
              </a:rPr>
              <a:t>Wha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you’ll lea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lba"/>
              </a:rPr>
              <a:t>Descri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ysical properties used to identify miner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lba"/>
              </a:rPr>
              <a:t>Ident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erals using physical properties such as hardness and st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hysical Propert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ineral appear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ar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Specific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t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vage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ineral appearan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yrite"/>
          <p:cNvPicPr/>
          <p:nvPr/>
        </p:nvPicPr>
        <p:blipFill>
          <a:blip r:embed="rId1"/>
          <a:stretch/>
        </p:blipFill>
        <p:spPr>
          <a:xfrm>
            <a:off x="228600" y="3691080"/>
            <a:ext cx="3276720" cy="316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Gold%202_jpg"/>
          <p:cNvPicPr/>
          <p:nvPr/>
        </p:nvPicPr>
        <p:blipFill>
          <a:blip r:embed="rId2"/>
          <a:stretch/>
        </p:blipFill>
        <p:spPr>
          <a:xfrm>
            <a:off x="4572000" y="3797280"/>
            <a:ext cx="4572000" cy="3060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8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ardnes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7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079640" y="1612800"/>
            <a:ext cx="1611000" cy="4041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068480" y="1324080"/>
            <a:ext cx="7086600" cy="304560"/>
          </a:xfrm>
          <a:prstGeom prst="rect">
            <a:avLst/>
          </a:prstGeom>
          <a:solidFill>
            <a:srgbClr val="2f18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hs 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66680" y="1628640"/>
            <a:ext cx="7086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068480" y="1566720"/>
            <a:ext cx="1787400" cy="38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819520" y="1552680"/>
            <a:ext cx="9903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124080" y="1925640"/>
            <a:ext cx="484056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fingernail can easily scratch it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068480" y="1324080"/>
            <a:ext cx="7084800" cy="4343400"/>
          </a:xfrm>
          <a:prstGeom prst="rect">
            <a:avLst/>
          </a:prstGeom>
          <a:noFill/>
          <a:ln w="381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_x0008_prev.jpg                                                       00013FCE_x0007_MacOS 9                        B5FADE23: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8880" y="5956200"/>
            <a:ext cx="743040" cy="749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_x0008_next.jpg                                                       00013FCE_x0007_MacOS 9                        B5FADE23: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56200"/>
            <a:ext cx="742680" cy="7495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2"/>
          <p:cNvSpPr/>
          <p:nvPr/>
        </p:nvSpPr>
        <p:spPr>
          <a:xfrm>
            <a:off x="4043520" y="1596960"/>
            <a:ext cx="167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H="1">
            <a:off x="1066320" y="242424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H="1">
            <a:off x="1068120" y="272556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>
            <a:off x="1058400" y="32083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>
            <a:off x="1072800" y="352260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1060200" y="37987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1050480" y="429588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H="1">
            <a:off x="1064880" y="45799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H="1">
            <a:off x="1077480" y="484344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 flipH="1">
            <a:off x="1064880" y="512928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 flipH="1">
            <a:off x="1055160" y="193500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"/>
          <p:cNvSpPr/>
          <p:nvPr/>
        </p:nvSpPr>
        <p:spPr>
          <a:xfrm>
            <a:off x="3905280" y="1612800"/>
            <a:ext cx="0" cy="402768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4"/>
          <p:cNvSpPr/>
          <p:nvPr/>
        </p:nvSpPr>
        <p:spPr>
          <a:xfrm>
            <a:off x="2690640" y="1628640"/>
            <a:ext cx="0" cy="402768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Luster</a:t>
            </a: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</a:t>
            </a:r>
            <a:r>
              <a:rPr b="1" lang="en-US" sz="4000" spc="-1" strike="noStrike">
                <a:solidFill>
                  <a:srgbClr val="777777"/>
                </a:solidFill>
                <a:latin typeface="Arial"/>
              </a:rPr>
              <a:t>metal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9933ff"/>
                </a:solidFill>
                <a:latin typeface="Arial"/>
              </a:rPr>
              <a:t>nonmetall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3657600" cy="3314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fluorite_ky1b"/>
          <p:cNvPicPr/>
          <p:nvPr/>
        </p:nvPicPr>
        <p:blipFill>
          <a:blip r:embed="rId2"/>
          <a:stretch/>
        </p:blipFill>
        <p:spPr>
          <a:xfrm>
            <a:off x="5181480" y="3505320"/>
            <a:ext cx="3733920" cy="32763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9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 flipH="1">
            <a:off x="2361960" y="2819520"/>
            <a:ext cx="609480" cy="182880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5486400" y="2895480"/>
            <a:ext cx="914400" cy="1752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01-gold-bar-724490"/>
          <p:cNvPicPr/>
          <p:nvPr/>
        </p:nvPicPr>
        <p:blipFill>
          <a:blip r:embed="rId1"/>
          <a:stretch/>
        </p:blipFill>
        <p:spPr>
          <a:xfrm>
            <a:off x="76320" y="5029200"/>
            <a:ext cx="2438280" cy="1720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Specific Gra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compa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weight of an equal volume of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has specific gravity of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eans gold is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9 times heavi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splash-of-single-drop-in-still-water-pink-and-cyan-rotated-and-cropped-AJHD"/>
          <p:cNvPicPr/>
          <p:nvPr/>
        </p:nvPicPr>
        <p:blipFill>
          <a:blip r:embed="rId2"/>
          <a:stretch/>
        </p:blipFill>
        <p:spPr>
          <a:xfrm>
            <a:off x="6248520" y="4967280"/>
            <a:ext cx="1812960" cy="18907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0"/>
          <p:cNvGrpSpPr/>
          <p:nvPr/>
        </p:nvGrpSpPr>
        <p:grpSpPr>
          <a:xfrm>
            <a:off x="2819520" y="5500800"/>
            <a:ext cx="3124080" cy="976320"/>
            <a:chOff x="2819520" y="5500800"/>
            <a:chExt cx="3124080" cy="976320"/>
          </a:xfrm>
        </p:grpSpPr>
        <p:sp>
          <p:nvSpPr>
            <p:cNvPr id="97" name="AutoShape 8"/>
            <p:cNvSpPr/>
            <p:nvPr/>
          </p:nvSpPr>
          <p:spPr>
            <a:xfrm>
              <a:off x="2819520" y="6019920"/>
              <a:ext cx="3124080" cy="457200"/>
            </a:xfrm>
            <a:prstGeom prst="leftArrow">
              <a:avLst>
                <a:gd name="adj1" fmla="val 50000"/>
                <a:gd name="adj2" fmla="val 17082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3050280" y="5500800"/>
              <a:ext cx="279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9 times heavi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11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Arial"/>
              </a:rPr>
              <a:t>Specific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Mineral Density: Specific Gravity"/>
          <p:cNvPicPr/>
          <p:nvPr/>
        </p:nvPicPr>
        <p:blipFill>
          <a:blip r:embed="rId1"/>
          <a:stretch/>
        </p:blipFill>
        <p:spPr>
          <a:xfrm>
            <a:off x="152280" y="1200240"/>
            <a:ext cx="899172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21:09:41Z</dcterms:created>
  <dc:creator>fsa</dc:creator>
  <dc:description/>
  <dc:language>en-US</dc:language>
  <cp:lastModifiedBy>RomaK</cp:lastModifiedBy>
  <dcterms:modified xsi:type="dcterms:W3CDTF">2015-09-02T05:57:54Z</dcterms:modified>
  <cp:revision>19</cp:revision>
  <dc:subject/>
  <dc:title>Section-2  Mineral Identification pg.68</dc:title>
</cp:coreProperties>
</file>